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C2F-AFF4-4AF2-921A-43D4AEF2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F3F-60A0-47D1-8664-9058099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7B7-3A11-4AA7-ABA5-F4A3E12E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390-E080-46DB-A309-2DE85A8B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8F56-4142-4810-80D8-25B84660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69F-6D63-4976-AAB5-245D1D4B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FC72-BFBF-4E2F-9A39-0C3673BD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AC18-717C-46DF-891D-50A65153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3024-3946-4EA8-AE3F-D841F4A4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47C-D9CD-464C-8C8B-E1A0BADE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C3FA-EA7C-49B5-8B93-1FE9679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C1B-5A8E-4CEC-B7D4-D514C11B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9642-CF14-45FE-AA3C-A4DCB241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8F8F-5907-4EE4-BB5D-FDE43F8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232C-C591-4568-9EA7-C5539191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782A-EDF1-4D35-9CC0-C74BDE21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9FCA-DD41-4D72-9625-64CF9C6F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568B-343B-47CB-8D3F-D4C5B94B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5A49-066E-42B6-965E-EA230E7C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3B4F-5770-4C1F-B35B-3757646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F8E0-F01F-498B-B17B-AB6622DE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C3DD-614A-4AFE-A71F-5438CE8F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453-EA46-4151-ABD1-1391637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BE8E-E9DF-469D-86A0-DA82651F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4452-890C-4325-A91C-6F5F3B8D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5629-1792-4529-A34D-45ACE608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9FD6-EE2E-4661-A278-02753E3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4CC3-20E6-470F-90C7-DB6C07D8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88A2-2D04-427C-AD2E-F742CD8F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534D-22C1-45A8-AB49-A8719578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D889-C06C-4F34-B163-4AD570D2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EFDE3-102A-4218-BF23-4FD75E0A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00CC-26C1-4FC2-8291-82778A9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F23-0B12-4384-A4E6-65A3ECDC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8987-3A68-460B-ACDF-D0392CB6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809B6-317D-4BDC-BD0F-3B67D16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93EBB-F354-4FB3-9C46-E6946F53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3BFE-735D-462E-9BA1-54BB35EC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1845-DE34-4C35-8D66-32C7DD62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BCEB-F661-4F29-BA58-4B41B85E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65275-472C-4792-8E80-1FC4822B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D37D0-8F9F-4C0E-9C42-A608A6C4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A2B0-F65D-4161-9842-88EAA675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A6D7C-2990-4249-9C81-B7FE3CB6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624A-BBCF-45B6-A32B-188C2023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9E4E-2D4B-4400-AAD8-1E674B66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E286C-1AE7-480F-99B6-1464D95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E95A8-21AF-40A1-8317-EFDFEA5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C7A3-BE26-4007-8AE7-3FB9E0BE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503E0-B48C-40CA-AA2F-01F00F39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59BB-A5E2-4D32-865C-6C771233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8F4D-EB47-4A76-A747-D0C0B453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DCBB-EE11-4AD4-A37A-4A1DCF52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7403A-9B15-4F0D-A43C-937D2C59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DFD76-E38F-4B6F-9052-EE9A372E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ECC-4ED5-46CC-83C0-CBF9F10E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2C3F-941E-4BDD-8DE9-FA345395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9FE01-9868-4C1E-891C-12254584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8379F-6570-4D21-AD2F-08FEB2B9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50A08-DD54-476B-AEB4-605334B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5E5E-C9C6-47F7-B403-A0B9E272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893E-1635-496F-8565-9CF356A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68AE7-CD2F-42C6-A7B2-2EFE71CA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874C1-0BBC-4196-9008-6187E75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4A709-C867-4A7E-B462-AF27DDE5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E73D-1561-4BFA-B029-7FDB6411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03B-BB62-46D3-AF43-A104A72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610B-20AB-4B52-B3DB-43215F47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F5DF4-3A08-4ED3-95DA-FA377D63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3BD3-29C1-41A1-BAE5-1F79F3DC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7DF79-F137-40F5-9FED-1F530927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84D6-73B3-4015-B72C-FB8E8B89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A8910-499B-4334-A5F2-D4E07A6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E9618-F37B-4145-84C7-05FDB6A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7FA6C-C9CE-4C89-AAA6-60FFCEAD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1942-A22B-4781-911D-3E316B4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6FA10-2DB7-4DF1-95BB-329189B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781-0C69-417C-A7EB-2FBBE82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54A60-653B-4470-905C-C9794AD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F9130-D19F-4F3F-B42E-365CC74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AD664-5AB6-4E19-AF61-64D87670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BD89-C684-4665-A5BE-DE05A2EC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8167-A562-4C3F-BB52-F69F553D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D2D-3141-40F3-AB4C-18FB4AB1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2A3C-4C4E-4FB3-9934-FFD4A452922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9329-FAC8-4C9F-ADF7-2FCE566D633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7C64-C582-4335-A39E-9145B2A0F62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6166-2FCC-4FC4-AC41-777D66261C0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22D6-D8D0-4919-957A-0142523B7E0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0646-E0FF-4EA7-B0A6-812A8BCB50C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1BA3-70FB-472E-8C25-CD277CD816D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</a:rPr>
              <a:t>Презентация:</a:t>
            </a:r>
            <a:br>
              <a:rPr sz="3100"/>
            </a:br>
            <a:r>
              <a:rPr b="0" lang="en-US" sz="3100" spc="-1" strike="noStrike">
                <a:solidFill>
                  <a:srgbClr val="ffffff"/>
                </a:solidFill>
                <a:latin typeface="Candara"/>
              </a:rPr>
              <a:t>«Физико-химические методы анализа»</a:t>
            </a: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Этот метод хроматографии основан на том, что фронт хроматографической системы опускается по пластинке в основном под действием сил тяжести , т.е. фронт подвижной фазы движется сверху вниз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ля этого метода в верхней части хроматографической камеры крепится кювета с хроматографической системой из которой с помощью фитиля на хроматографическую пластинку поступает растворитель, который стекает и происходит хроматографирование исследуемого образц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 недостаткам этого метода можно отнести усложнение оборудования. Этот метод используется в основном в бумажной хроматографи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Нисходящая тонкослойная хроматография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Этот метод наиболее сложен в аппаратурном оформлении но наиболее удобен. Так, в хроматографической камере пластинка размещается горизонтально и подача системы происходит на один край пластинки с помощью фитиля. Фронт растворителя движется в противоположную сторону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Есть еще один прием, позволяющий предельно упростить камеру. Для этого хроматографическую пластинку на алюминиевой основе слегка изгибают и помещают в камеру. В данном случае система будет поступать с двух сторон одновременно. Для этой цели подходят только пластины с алюминиевой подложкой, так как пластиковая и стеклянная основа "несгибаема", т.е. не сохраняет форму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К достоинствам этого метода можно отнести то, что в горизонтальной кювете насыщение парами системы происходит гораздо быстрее, скорость движения фронта постоянная. А при хроматографировании с двух сторон, фронт не "убегает"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Горизонтальная тонкослойная хроматография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Радиальная тонкослойная хроматография заключается в том, что в центр пластинки наносится исследуемое вещество и туда же подается система, которая движется от центра к краю пластинк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Для тонкослойной хроматографии существует несколько видов качественного анализа (идентификации) разделенных веществ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Визуальные методы и определение Rf разделенных вещест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Цветные реакци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Сравнение со свидетелям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Физико-химические методы идентификаци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Радиальная тонкослойная хроматография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420640"/>
            <a:ext cx="7408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Визуальные методы используются в основном, для определения местоположения пятен разделенных веществ на хроматографической пластинке. Для этого пластинку рассматривают как в видимом свете, так и используя ультрафиолетовый свет (в основном свет с длиной волны 366 и 254 н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Это первый этап идентификации, на котором определяется качество подобранных условий и полученных результатов хроматографирования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Так, определив качество хроматографирования (отсутствие "хвостов" разделяемых веществ или перекрытие их пятен, правильную форму и размеры, отсутствие слияния хроматографических дорожек и т.д.) и признании пригодным проведенного разделения для дальнейшего исследования, определяют Rf выявленных пятен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Значение Rf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Одним из основных показателей в ТСХ является показатель Rf. Этот параметр является аналогией времени удерживания и зависит как от свойств разделяемых веществ, состава подвижной фазы и сорбента, так и от физических параметров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Определение значения Rf проводят как отношение расстояния прошедшего веществом к расстоянию, прошедшего фронтом растворителя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Rf = L/L0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Физические метод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Значение Rf - величина безразмерная и имеет значение от 0 до 1. Однако в литературе нередко встречается такие показатели как hRf, Rf×100, которые являются тем же Rf, но умноженными на 100, для того, чтобы не оперировать десятичными значениям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На значение Rf не влияет расстояние пройденное фронтом растворителя, однако во многих методиках описывается прохождение фронта на расстояние 10 см. Это используется только для облечения расчетов Rf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На практике, в начале определяют расстояние прошедшее фронтом растворителя: от линии старта (а не от края пластинки) до места, где находился фронт в момент окончания хроматографирования. Затем определяют расстояние от линии старта до пятна разделенного вещества. Во тут и оказывает влияние размер пятна! Ведь если пятно имеет круглую форму и небольшой размер, то полученное Rf имеет четкое значение. А если полученное пятно имеет большой размер или неправильную форму, то при определении Rf такого пятна, ошибка может достигнуть 0,1!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случае распределительной хроматографии коэффициент распределения вещества и его Rf связано соотношением: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где Sп и Sн -площади поперечных сечений подвижной и неподвижной фазы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Как мы видим, Коэффициент распределения, при постоянном отношении Sп/Sн есть величина пропорционально зависящая от Rf , и может быть определена через него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Цветные реакции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Цветные реакции в тонкослойной хроматографии используются чрезвычайно широко. Они служат не только для определения местоположения разделенных компонентов (обработка серной кислотой, парами йода), но и определения как класса веществ, так и идентификации (при наличии индивидуальных реакций)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Мы не будем здесь рассматривать это огромное разнообразие цветных качественных реакций (подробнее здесь), скажем лишь, что при совпадении всех качественных реакций и совпадении полученных значений Rf вещества в трех различных системах с литературными данными, вещество идентифицировано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равнение со свидетеле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ри проведении исследований веществ с предполагаемым составом, применяют метод хроматографирования со свидетелем - известным веществом. Этот метод используется кода трудно выдержать условия хроматографирования, нет литературных данных Rf для данной системы или адсорбента, использование градиентного метода и т.д. Да и при проведении цветных реакций можно сравнить не только цвета, но и оттенки исследуемых веществ и свидетелей, что также немаловажно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 другой стороны этот метод требует дополнительных расходов на свидетел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Прелесть тонкослойной хроматографии состоит в том, что после хроматографирования каждое разделенное вещество можно в дальнейшем исследовать другими методами гораздо проще. И дело тут не в том, что другие методы хроматографирования не могут этого. Дело тут в сложности выделения и материальных затратах на специальные приспособления, у которых только одна задача - выделить вещество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В тонкослойной хроматографии есть только одна трудность - снять слой сорбента и вымыть из него вещество. В дальнейшем можно его исследовать с использованием ИК и УФ-спектрометрии, рентгено-структурными методами, ЯМР и т.д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Поэтому, используя тонкослойную хроматографию для разделения смесей, можно не только исследовать каждый компонент различными методами, но и наработать небольшое количество, в том числе и для свидетелей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Физико-химические методы идентификац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Фотометрирование интенсивно окрашенных растворов успешно осуществляется дифференциальной фотометрии. Если в обычной фотометрии сравнивается интенсивность света Ix, прошедшего через анализируемый раствор неизвестной концентрации, с интенсивностью света I0 , прошедшего через растворитель, то в дифференциальной фотометрии луч света проходит не через растворитель, а через окрашенный раствор известной концентрации – так называемый раствор сравнения сср. Его интенсивность обозначим как Iср. Отношение интенсивностей Ix/Iср называется условныым коэффициентом пропускания T`x . И переходя от коэффициентов к оптическим плотностям, получим: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A`x = Ax – Aср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А`х = e lcx - Аср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ndara"/>
              </a:rPr>
              <a:t>где А`x – относительная оптическая плотность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Метод дифференциальной фотометр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аким образом, дифференциальная фотометрия существенно расширяет концентраций, доступную для точных фотометрических измерений. Кроме того, точность некоторых методик диференциальной фотометрии превышает точность методик обычной фотометрии. Кстати, обычную фотометрию при Тср = 1 мы можем рассматривать, как частный случай дифференциально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. Тонкослойная хроматограф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а) виды качественного анализ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2. Метод дифференциальной фотометрии. Характеристика и область примен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3. Классификация электрохимических методов анализ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нализ по ИК-спектрам также основан на применении закона Бугера-Ламберта-Бера.. Чаще всего здесь используется метод градууировочного графика, т.к. метод молярного коэффициента здесь слабо применим из-за рассеяния, сплошного поглощения и других эффектов ИК-излучения. Многие сложности ИК-спектрометрии успешно преодолеваются с помошью метода базовой линии, к оторый получил достаточно большо распостранение в практик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етод количественного анализа по ИК-спектрам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Фотометрические и спектрометрические методы анализа применяются для определения многих (более 50) элементов периодической системы, главным образом металлов, анализируются руды, минералы, объекты окружающей среды, продукты переработки обогатительных и гидрометаллургических предприятий. Эффективно эти методы используется в металлургической, электронной областях промышленности, в медицине, биологии, криминалистике и т.д. Большое значение они имеют в аналитиченском контроле окружающей среды и решении экологических проблем. Значительно расширились области практического применения методов абсорбционной спектроскопии благодаря более широкому использованию инфракрасной области спектра и приборов на базе ЭВМ. Это позволило разработать методы анализа сложных многокомпонентных систем без их химического разделения. Простые, быстрые и точные методы анализа имеют огромное значение для исследования различных реакций, установления состава и исследования различных химических соединений. Успехи химии координационных соединений, достижения микроэлектроники, приборостроения дают все основания ожидать дальнейшего повышения точности и чувствительности этих методов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Практическое примене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Кнорре Д.Г., Крылова Л.Ф., Музыкантов В.С. Физическая химия. - М.: Высш. шк., 1990. - 416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Алесковский В.Б., Бардин В.В., Булатов М.И. Физико-химические методы анализа. Практическое руководство.- Л.: Химия, 1988. - 376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Ольшанова К.М. Практикум по хроматографическому анализу. М., Высш. школа, 1970. -312с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Список использованной литературы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Основой тонкослойной хроматографии является адсорбционный метод, хотя также встречается метод распределительной хроматографи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Адсорбционный метод основан на различии степени сорбции-десорбции разделяемых компонентов на неподвижной фазе. Адсорбция осуществляется за счет ван-дер-вальсовских сил, являющейся основой физической адсорбции, полимолекулярной (образование нескольких слоев адсорбата на поверхности адсорбента) и хемосорбцией (химического взаимодействия адсорбента и адсорбата)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Для эффективных процессов сорбции-десорбции необходима большая площадь, что предъявляет определенные требования к адсорбенту. При большой поверхности разделения фаз происходит быстрое установление равновесия между фазами компонентов смеси и эффективное разделение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Еще одним видом используемом в методе тонкослойной хроматографии является распределительная жидкостная хроматография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Физико-химические основы тонкослойной хроматограф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распределительной хроматографии обе фазы - подвижная и неподвижная - жидкости, не смешивающиеся друг с другом. Разделение веществ основано на различии в их коэффициентах распределения между этими фазам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первые метод тонкослойной хроматографии заявил о себе как "Бумажная тонкослойная хроматография", которая основывалась на распределительном методе разделения компонентов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Распределительная хроматография на бумаге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связи с тем, что используемая в этом методе хроматографическая бумага (специальные сорта фильтровальной бумаги) содержат в порах воду (20-22%), в качестве другой фазы используются органические растворител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спользование хроматографии на бумаге имеет ряд существенных недостатков: зависимость процесса разделения от состава и свойств бумаги, изменение содержания воды в порах бумаги при изменении условий хранения, очень низкая скорость хроматографирования (до нескольких суток), низкая воспроизводимость результатов. Эти недостатки серьезно влияют на распространение хроматографии на бумаге как хроматографического метода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Поэтому можно считать закономерным появление хроматографии в тонком слое сорбента - тонкослойной хроматографи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этом методе хроматографирование веществ происходит в тонком слое сорбента, нанесенного на твердую плоскую подложку. Разделение в этом методе в основном происходит на основе сорбции-десорбци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спользование различных сорбентов, позволило значительно расширить и улучшить этот метод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В начале появления метода пластины приходилось изготавливать самостоятельно. Но на сегодняшний день в основном используются пластины заводского изготовления, имеющие достаточно широкий ассортимент как по размерам и носителям, так и по подложкам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Современная хроматографическая пластинка представляет собой основу из стекла, алюминия или полимера (например политерефталат). В связи с тем, что стеклянная основа становится менее популярной (часто бьется, нельзя разделить пластинку на несколько частей не повредив слой сорбента, тяжелая по весу), наибольшее распространение получили пластины, в качестве основ которых используют алюминиевую фольгу или полимеры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Для закрепления сорбента применяют гипс, крахмал, силиказоль и др., которые удерживают зерна сорбента на подложке. Толщина слоя может быть различна (100 и более мкм), но самый важный критерий - слой должен быть равномерный по толщине в любом месте хроматографической пластинки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Тонкослойная хроматографи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 тонкослойной хроматографии, в качестве подвижной фазы используют либо чистые вещества (этилацетат, бензол и т.п.), либо смеси веществ (системы) в определенном соотношени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одбор подвижной фазы (системы) проводится по следующим правилам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ыбирают такую систему, в которой разделяемые компоненты имеют небольшую растворимость (если растворимость вещества высокая, то вещества будут перемещаться с фронтом, при низкой растворимости - оставаться на старте). При распределительной хроматографии или при использовании обращенных фаз, растворимость веществ должна быть выше в подвижной фазе, чем в неподвижной фазе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остав системы должен быть постоянным и легко воспроизводимым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Растворитель или компоненты системы не должны быть ядовитыми или дефицитными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истема должна полностью разделять вещества близкого строения, причем различия в Rf должно быть не менее 0,05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Система не должна вызывать химические изменения разделяемых компонентов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 выбранной системе анализируемые вещества должны иметь различные значения Rf и распределяться по всей длине хроматограммы. Желательно, чтобы значения Rf лежало в пределах 0,05-0,85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При выборе системы также необходимо учитывать природу разделяемых веществ. Так, при хроматографировании веществ, имеющих основные свойства система не должна обладать кислотными свойствами и наоборот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Тонкослойная хроматография имеет несколько способов, связанных, в основном, с видом движения растворителей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осходящая тонкослойная хроматографияГоризонтальная тонкослойная хроматографи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Радиальная тонкослойная хроматография.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Candara"/>
              </a:rPr>
              <a:t>Восходящая тонкослойная хроматография 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00000" y="2852280"/>
            <a:ext cx="7407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Этот вид хроматографии наиболее распространен и основан на том, что фронт хроматографической системы поднимается по пластинке под действием капиллярных сил, т.е. фронт хроматографической системы движется снизу-вверх. Для этого метода используется наиболее простое оборудование, так как в качестве хроматографической камеры можно использовать любую емкость с плоским дном и плотно закрывающейся крышкой, в которую свободно помещается хроматографическая пластинк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Метод восходящей тонкослойной хроматографии имеет ряд своих недостатков. Например, скорость поднятия фронта по пластинке происходит неравномерно, т.е. в нижней части она самая высокая, а по мере поднятия фронта уменьшается. Это связано с тем, что в верхней части камеры насыщенность парами растворителя меньше, поэтому растворитель с хроматографической пластинки испаряется интенсивнее, следовательно уменьшается его концентрация и скорость движения замедляется. Для устранения этого недостатка по стенкам хроматографической камеры прикрепляют полоски фильтровальной бумаги, по которым поднимающаяся хроматографическая система насыщает парами камеру по всему объем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Некоторые хроматографические камеры имеют на дне разделение на две ванночки. Это усовершенствование позволяет не только уменьшить расход хроматографической системы (для получения необходимой высоты хроматогратографической системы требуется меньший объем) но и использовать дополнительную кювету для растворителя, увеличивающего давления насыщенных паров в камере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ndara"/>
              </a:rPr>
              <a:t>Недостатком также можно считать необходимость следить за фронтом растворителя, так как возможно "убегание" лини фронта растворителя до верхнего края. В таком случае определить действительное значение Rf уже не представляется возможным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3:17:55Z</dcterms:created>
  <dc:creator>хим</dc:creator>
  <dc:description/>
  <dc:language>en-US</dc:language>
  <cp:lastModifiedBy>Пользователь</cp:lastModifiedBy>
  <dcterms:modified xsi:type="dcterms:W3CDTF">2012-06-28T06:57:33Z</dcterms:modified>
  <cp:revision>5</cp:revision>
  <dc:subject/>
  <dc:title>«Физико-химические методы анализа»</dc:title>
</cp:coreProperties>
</file>